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5AA-CA11-4BB0-87F1-94DDF01C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464-9444-4C39-BA52-5E0AA6E2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E8E-924C-4A85-B0EE-08195B6D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6AD-C2ED-4467-980E-2D8B5CD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4B4-7B97-46A3-B520-E390B035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904-1EFB-46D7-A19C-92DD793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8CD-AE2C-4CCC-9AD1-C5AB016E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62F-B2B4-41B9-B969-484CA12E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4DDB-17BE-41DE-A7FD-8DEB59D6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E78-A575-4F8C-96E2-E4155B6F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70C-07F9-46D5-8A2A-5B9BE30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B92-8500-4C92-AA07-FE62126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7F1A-7556-4E42-B1DB-4BEB061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5966-9F26-45FF-8C07-9E075C8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F96E-4322-4CE0-BF30-6E13FD8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B381-3AA3-44AB-A8D8-FA4D8E09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0E3D-0CD4-43B7-9F10-649AB5D6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49A-B92B-4CB2-AB7B-1A09DC8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A22-8A9B-4746-9C13-E5FF310F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99C-0230-4DA1-9DF1-BABF726C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00E-7543-4867-A224-771C12A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58E-0D54-4F66-AAF0-C7772D0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34-8574-478F-BAEA-61A55D2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81C-3302-411E-AB1D-9B2233A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4EA2-7076-48AA-B971-94284DFC3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8AD-FDB2-4EA5-9696-BDA93203C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eração de código intermed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embr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observamos, o objetivo de se realizar a geração de código intermediário é permitir a realização de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seria um outro uso de linguagens intermediárias atu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080" y="4149720"/>
            <a:ext cx="17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J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 uma variedade de linguagens intermediárias at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se está projetando um compilador, certamente a decisão de qual linguagem intermediária utilizar é cru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endendo da linguagem intermediária, otimizações de código poder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facilment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difíceis d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mandar mais tempo de computação se as linguagens intermediárias forem inapropri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 ponto importante é observarmos quão independente de máquina a linguagem intermediária 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s dependente de máquina, será mais difícil de se implementar certas otim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muitos compiladores fazem é a utilização de várias representações intermedi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compilação, inicialmente gera-se uma primeira representação intermediária, na qual são aplicadas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esta representação otimizada é convertida em outra representação intermediária, conveniente para a aplicação de outras otimiz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exemplo de compilador que realiza tal estratégia é o compilador da Hewlett-Packard para PA-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linguagens intermediárias podem ser classificada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alt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nível mé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baix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al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ompilador pode gerar mais de uma destas representações durante o processo de compi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forma de representação intermediária é 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forma condensada de árvore gramatical, útil para a representação das construções de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odução S ::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aparecer numa árvore sintática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7760" y="161748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43200" y="2075040"/>
            <a:ext cx="8380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913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9560" y="291312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291312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151000"/>
            <a:ext cx="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151000"/>
            <a:ext cx="5335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 os operadores e as palavras chaves não figuram como folhas, ao contrário, são associados a um nó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a seguinte árvore sin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4320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407988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70280" y="4700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08160" y="5386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36760" y="5081760"/>
            <a:ext cx="60984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8880" y="508176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8880" y="5462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79760" y="6148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58435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59680" y="4781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97560" y="541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26160" y="511020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105520"/>
            <a:ext cx="468360" cy="46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88280" y="5491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9160" y="6176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58723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4419720"/>
            <a:ext cx="9144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4419720"/>
            <a:ext cx="10666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gora explorar as questões envolvidas na transformação do código fonte em uma possível representação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imos, nas ações semânticas já é possível fazer a geração direta de código (assembly por exemp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s sintáticas permitem que a geração de código seja desacoplada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geração das árvores sintáticas é feita através de ações semân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para um comando de atribuição poderíamos ter a gramática com as seguintes ações semân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280" y="24379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:= E          S.nptr := criar_no(‘assign’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), E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+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*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      E.nptr := criar_nó(‘menosU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(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) |           E.nptr :=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.nptr := 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Grafo Dirigido Acíclico GDA também é uma representação intermediária de um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(GDA) para uma expressão identifica as subexpressões comuns existentes na me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uma árvore sintática, um GDA possui um nó para cada subexpressão de uma ex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interior representa um operador e os filhos representam seu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diferença entre um GDA e uma árvore sintática (AS) é que, um nó de um GDA representando uma subexpressão comum, possui mais de um 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DA fornece as mesmas informações da AS, porém de maneira mais compa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o exemplo visto anteriormente terí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o G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28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4920" y="35672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60352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004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72160" y="3546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724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1120" y="51055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510552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61340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867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396252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cubicBezTo>
                  <a:pt x="96" y="100"/>
                  <a:pt x="192" y="200"/>
                  <a:pt x="192" y="288"/>
                </a:cubicBezTo>
                <a:cubicBezTo>
                  <a:pt x="192" y="376"/>
                  <a:pt x="32" y="488"/>
                  <a:pt x="0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59400" y="3962520"/>
            <a:ext cx="317520" cy="838080"/>
          </a:xfrm>
          <a:custGeom>
            <a:avLst/>
            <a:gdLst/>
            <a:ahLst/>
            <a:rect l="l" t="t" r="r" b="b"/>
            <a:pathLst>
              <a:path w="200" h="528">
                <a:moveTo>
                  <a:pt x="200" y="0"/>
                </a:moveTo>
                <a:cubicBezTo>
                  <a:pt x="108" y="76"/>
                  <a:pt x="16" y="152"/>
                  <a:pt x="8" y="240"/>
                </a:cubicBezTo>
                <a:cubicBezTo>
                  <a:pt x="0" y="328"/>
                  <a:pt x="76" y="428"/>
                  <a:pt x="152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657600"/>
            <a:ext cx="2743200" cy="1295280"/>
          </a:xfrm>
          <a:prstGeom prst="wedgeRoundRectCallout">
            <a:avLst>
              <a:gd name="adj1" fmla="val -75523"/>
              <a:gd name="adj2" fmla="val 4289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ó que representa uma subexpressão comum possui mais de um 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regras semânticas podem criar os GDA´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regras vistas anteriormente poderiam ser us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unção criar_nó (op, esquerdo, direito) deverá verificar, antes de criar um novo nó, se já não existe um nó com raiz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filh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squ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o GDA para a seguinte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) * a + a + (a + b) *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posto por uma seqüência de instruções envolvendo operações binárias ou unárias 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‘três endereços’ está associado à especificação, em uma instrução, de no máximo três operandos: dois para os operadores binários e uma para o resulta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: t1 = -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 := b * 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 :=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ódigo de três endereços é uma seqüência de enunciados da forma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nomes, constantes ou objetos de dados temporários criados pelo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no lugar de qualquer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expressões envolvendo diversas operações são decompostas nesse código em uma série de instruções, eventualmente com a utilização de variáveis temporárias introduzidas na tradu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sa forma, obtém-se um código mais próximo da estrutura da lingu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a maioria dos compiladores comerciais realizam a geração de uma representação intermediária entre o código fonte e o código de má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representação intermediária é chamada de linguagem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código de três endereços não são permitidas expressões aritméticas construídas, já que só há um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uma expressão da forma x + y * z poderia ser traduzida na seqü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:= y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:= x +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emporários são construídos para os nós interiores d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enunciados de três endereços são semelhantes ao código de montagem (linguagem assemb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especificação de uma linguagem de três endereços envolve quatro tipos básicos de instru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ressões com atrib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vocação de roti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aquelas nas quais o resultado de uma operação é armazenado na variável especificada à esquerda do operador de atribuição, aqui denotado por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á três formas para esse tipo de instr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imeira, a variável recebe o resultado de uma operação bin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segunda, o resultado pode ser obtido a partir da aplicação de um operador uná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op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ceira forma, pode ocorrer uma simples cópia de valores de uma variável para ou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struções de atribuição -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instrução em linguagem de alto ní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ia traduzida nesse formato para as instruçõ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 *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:= b + _t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tribuições indexadas, as duas formas básicas 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[i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[i] :=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 := y[i] atribui à x o valor amazenado i posições de memória a partir do endereço de memóri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[i] := y atribui o valor y à posição de memória com deslocamento i partir do endereço de memóri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odem assumir duas formas bás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instrução de desvio incondicional tem o form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L é um rótulo simbólico que identifica uma linha do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utra forma de desvio é o desvio condicional, com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f x opr y goto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r é um operador relacional de comparação (&lt;, &lt;=, ...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é o rótulo da linha que deve ser executada se o resultado da aplicação do operador relacional for verdadeir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, a linha seguinte é executa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seguinte iteração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hile (i++ &lt;= 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0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1989000"/>
            <a:ext cx="30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2674800"/>
            <a:ext cx="302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47184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6320" y="4251240"/>
            <a:ext cx="4049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5021280"/>
            <a:ext cx="489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57480" y="5749920"/>
            <a:ext cx="48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793960"/>
            <a:ext cx="1584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3009960"/>
            <a:ext cx="158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dor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63640" y="2158920"/>
            <a:ext cx="107964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63640" y="2923920"/>
            <a:ext cx="1152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329724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513240"/>
            <a:ext cx="432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3657600"/>
            <a:ext cx="431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158920"/>
            <a:ext cx="129564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924280"/>
            <a:ext cx="1295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84720" y="3512880"/>
            <a:ext cx="115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43640" y="3512880"/>
            <a:ext cx="79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20000" y="380160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20000" y="380196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6400" y="6432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0720" y="1433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6240" y="17431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157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4657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68960" y="54878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623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ser traduzida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1:  if i &gt; k goto _L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 := i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_L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2: x[0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timização de Có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são as otimizações realizadas por um compil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ocação de registradores: Tenta evitar a gravação/leitura de valores de/para a memória principal fazendo que os mesmos residam em regist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constantes: Propaga sempre que possível constantes em expre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corre em duas 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, os argumentos do procedimento são ‘registrados’ com a instrução pa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a definição dos argumentos, a instrução call completa a invocação da ro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instrução return indica o fim de execução de uma rot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cionalmente, esta instrução pode especificar um valor de retorno, que pode ser atribuído na linguagem intermediária a uma variável como resultado de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considere a chamada de uma função f que recebe três argumentos e retorna um val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(a, b, 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exemplo em C, esse valor de retorno não é utilizado. De qualquer modo, a expressão acima seria traduzida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all f,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o número após a vírgula indica o número de argumentos utilizados pelo procedimento 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o uso desse argumento adicional é possível expressar sem dificuldades as chamadas aninhadas de proced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tribuições de ponteiro e endereç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struções em formato intermediário também utilizam um formato próximo àquele da linguagem 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:= &amp;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 := *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x := 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mplementação de código de Três Endereç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presentação interna das instruções em códigos de três endereços dá-se na forma de armazenamento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quatro colunas(quadrú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três colunas (tri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bordagem que utiliz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ádrupl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ada instrução é representada por uma linha na tabela com a especificaçã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eiro 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do resul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772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ao := inicial + taxa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4200" y="22129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872080"/>
            <a:ext cx="2808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2920" y="502452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916800"/>
            <a:ext cx="43196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=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4200" y="33447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64200" y="437364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64200" y="5526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71680" y="4221000"/>
          <a:ext cx="1768320" cy="1551240"/>
        </p:xfrm>
        <a:graphic>
          <a:graphicData uri="http://schemas.openxmlformats.org/drawingml/2006/table">
            <a:tbl>
              <a:tblPr/>
              <a:tblGrid>
                <a:gridCol w="687240"/>
                <a:gridCol w="1081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17960" y="380844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640" y="4206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560" y="454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4960" y="492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2360" y="530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, a tradução d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ria no seguinte trecho da tabe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55640" y="3573360"/>
          <a:ext cx="7714800" cy="2336040"/>
        </p:xfrm>
        <a:graphic>
          <a:graphicData uri="http://schemas.openxmlformats.org/drawingml/2006/table">
            <a:tbl>
              <a:tblPr/>
              <a:tblGrid>
                <a:gridCol w="608400"/>
                <a:gridCol w="2149560"/>
                <a:gridCol w="1378800"/>
                <a:gridCol w="1379160"/>
                <a:gridCol w="2198880"/>
              </a:tblGrid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lgumas instruções, como aquelas envolvendo operadores unários ou desvio incondicional, algumas das colunas estariam vaz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outra forma de representação, po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ripl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evita-se a necessidade de manter nomes de variáveis temporárias ao fazer referência às linhas da própria tabela no lugar dos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9640" y="4076640"/>
          <a:ext cx="8147160" cy="1855800"/>
        </p:xfrm>
        <a:graphic>
          <a:graphicData uri="http://schemas.openxmlformats.org/drawingml/2006/table">
            <a:tbl>
              <a:tblPr/>
              <a:tblGrid>
                <a:gridCol w="642960"/>
                <a:gridCol w="2270160"/>
                <a:gridCol w="1455840"/>
                <a:gridCol w="1455840"/>
                <a:gridCol w="2322360"/>
              </a:tblGrid>
              <a:tr h="64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 flipH="1">
            <a:off x="8317080" y="3429000"/>
            <a:ext cx="576000" cy="15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se caso, apenas três colunas são necessárias, uma vez que o resultado está sempre implicitamente associado à linha da tab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mesmo exemplo apresentado para a representação interna por quádruplas, a representação por triplas s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4360" y="3429000"/>
          <a:ext cx="7427880" cy="1979640"/>
        </p:xfrm>
        <a:graphic>
          <a:graphicData uri="http://schemas.openxmlformats.org/drawingml/2006/table">
            <a:tbl>
              <a:tblPr/>
              <a:tblGrid>
                <a:gridCol w="720720"/>
                <a:gridCol w="2454480"/>
                <a:gridCol w="2125440"/>
                <a:gridCol w="212724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360" y="196704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789200" y="166680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12768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346640"/>
            <a:ext cx="3352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6386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95288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62480" y="24606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8840" y="3678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20040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057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apas realizadas através de ações semânticas inseridas dentro do 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19720" y="3428640"/>
            <a:ext cx="83808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105520"/>
            <a:ext cx="180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023160"/>
            <a:ext cx="3578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589720"/>
            <a:ext cx="5461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42900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8000"/>
            <a:ext cx="3353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895480"/>
            <a:ext cx="1440" cy="55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3352680"/>
            <a:ext cx="381240" cy="129564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5812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6640" y="1844640"/>
            <a:ext cx="410364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5805360"/>
            <a:ext cx="324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68280" y="4005360"/>
            <a:ext cx="3535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5680" y="1971720"/>
            <a:ext cx="3967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1360" y="3500280"/>
            <a:ext cx="0" cy="41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13360" y="306864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6120" y="53262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6165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5953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61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51280" y="4771080"/>
            <a:ext cx="261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taxa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F   #60.0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inicial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DF   R2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R1, _posi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5440" y="2324160"/>
            <a:ext cx="324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3800" y="4267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5440" y="3694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05440" y="18194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3800" y="31161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08T02:23:27Z</dcterms:modified>
  <cp:revision>653</cp:revision>
  <dc:subject/>
  <dc:title>Aula 1802 – Fases de um compilador</dc:title>
</cp:coreProperties>
</file>